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A6D6-CE46-48C9-B7CE-2CBCEA84C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1ED7-132C-46C2-9C28-BE33947D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325C9-BA83-4B6E-A9A8-20813F40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FD853-3EFC-4F79-90F2-2F50C31E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BAA69-3FB8-45D1-B3DF-DB024A6C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F59EE4-93E8-4200-A759-7B473A36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6EDB2-5BFF-4478-9351-10F42D27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33200-4943-4C85-863E-2573E5D2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04BE7-1B73-4366-890E-B2E7717C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72762-0F2F-47AB-862A-61D186BE1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29525-5049-458E-AF0F-C2515B3D5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F327A4-388E-4627-85E7-DB0A23C48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637D-DA19-41A4-A270-2469041A8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C34870-F5C9-413C-AFC9-C256914D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E09171-F062-4E1A-A55F-34AFDF40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1C0ED8-0D28-4715-BEAD-D329DCB5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6DBFE-4709-4631-B51A-A5DFF1E7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5BF77-3867-4CA7-8C25-BA20B6D8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2A230-F054-420B-99D8-68D76889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04B756-32C6-483C-8B8A-DF33A8C7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BB1C07-8988-4E26-BD14-6614D2A7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F91F9B-A9F7-4B4C-B986-0F9C49D2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8A31B5-CCEF-4ABB-A572-DA46967B7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237B-4B57-4E7A-8C30-7AB69CD8D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876DC8-B5CE-4A6C-9238-6AEA9A342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4D1DD-E175-4D88-9EF4-39EC53809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F9F94-3AB1-4660-91C2-7B5F94C1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12F0F-2D66-45F1-8ED1-A9BD4FCB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69786-071D-4862-BD84-9BF9EE70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A05AA-9CA6-4C16-9031-D6977DAC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2953E-0761-4E95-94FC-A97A6352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D81BC-D2DB-4983-899C-E76858A0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A136A-94EC-4D3F-BBAC-D66D2B87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90801-4E4D-4031-9292-27F2E865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C4E1-A977-4A2C-A126-B48448A0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FEAE9-9A46-4FAD-9487-C1B47EC6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933F6-EDF4-4FAD-8C68-A12E3C302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FDAE0-B82C-46DB-A306-1A198A9A3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445B1B-8617-4875-A2B6-C35DC8F7D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006CCC-9832-4F01-A1B8-343A6E1A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2D4B38-0FAE-4D2A-9E68-715338A6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DE2031-80DD-4C1E-9C20-AD93D428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CFF063-F980-49CA-A081-A4A3B249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A723EB-8AEF-49C9-BF2A-202A01F4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99EA7D-D18D-4E6A-8E60-232D1359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D355-6347-4B2F-B287-2FB96794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4CC6A5-EA6F-4048-ADB8-29E494FF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C7ADED-3962-4453-9C05-BAF4B9CE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65BB6C-8A41-493E-8D4C-93F290F8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647A1-5734-4090-8968-065157689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D64B3D-D8EA-44BE-BC49-90D71AC03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D40368-715A-457C-A815-AA341D8CC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65145A-7341-4900-99A6-C8E00134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B85BD6-079C-485E-BF39-1A3CB1FF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27BFC0-C59C-4058-80A6-3041E114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E83AC9-732F-40C1-B271-50BBB45B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0068-141D-4984-B2CE-62BEE7D8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FC4D20-5359-41BC-BE3E-3B69D45B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A3EF61-D36D-4834-AC64-34AAE242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50EB44-4485-42AF-88CB-FE28B462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2D979C-B262-496B-A9E3-6EC37D13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AB9B62-A725-4048-A1E9-09DD63A9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D2B505-BFEE-4081-A858-45B49024E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64A7E6-CFC8-4D2E-A600-98C5DBBD0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1BC2DF-E8CD-466A-8AA2-356887B1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6AB75F-8A31-41F2-B92C-FFFB88C9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01B73B-C84E-4F69-8DDE-7725B04B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04C3-3CB0-4B08-A37D-D95E5568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8F09C4-BE2D-45E2-8CDD-6737088C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8E11E5-2DA4-4DB8-A5F5-3D35B479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CE221D-9720-44EF-B94B-B552DB2C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7C3AE9-E91D-40BF-A37D-5A9994DA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C9E48C-4075-4BD1-8EC7-1E9A300E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6FFA69-1A32-4B98-93CF-29012E11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775A20-4790-4B56-A165-C646C194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2B24F1-D639-4CBA-8036-095A24294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26667B-18D4-48CD-82ED-212E7DC1C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475C24-3808-4052-932F-DE4CA07FD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D59F-568F-4907-BB9D-BBD84492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2543F5-8864-49BC-BBDB-8D7C5C01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8C43F5-678C-4638-99A9-921799EC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68AA70-3C9E-4DD6-8B9E-D722BB84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D384B8-892A-4A2E-AA9C-5FBE6533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9BF2A7-9445-423C-896C-F56B6223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1C6CB5-1DE7-4FA3-916A-2E5B15BF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3BD5F5-E72E-48BC-991E-3A6A2D67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5ABF60-D2FC-40CF-B481-27E310F0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8D2665-F117-4AF9-9D6F-B6989C21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F453F8-EE70-4AAA-BAFC-0EA57F111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F030-2303-4EE5-BBAB-C24AD0B5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79F403-66E4-4565-8C4C-878707D84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E88F06-FE12-4A74-8149-FC08A69DF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1751C8-651D-4F70-B58B-25CF09DD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EE0C9F-00CE-4646-AC72-6435943C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712018-EC75-443F-936F-9D59AAC5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CC0BFF-2096-4C06-B151-0BF0B86C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11CB72-5DC6-471F-8CEC-2AB5B944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538F9F-DD67-4B29-8BE2-3AB898F7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DE1CE5-C092-4076-B290-CBCEE044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849391-15B4-4449-BF25-FDFB1584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75D3-6925-4849-9B5C-14E2ABBA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BEA12F-013C-4CB1-8FEC-767E303D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4C23C5-F6EA-4522-8DED-42958CF17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D92138-9843-4F12-AA98-9451DB511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67BFB2-1952-439A-92DE-CFB644D1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3044CE-9CCD-4633-AA30-E4021BCC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6ECE53-1F20-42A4-BF30-B9CEFD51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D469C2-B706-4B04-B804-9C66EA73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05C126-EB25-44D5-A625-7E323B21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225090-CB22-4059-95A3-09534CC5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8E3BA0-8790-4DCD-9159-F442D37A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A4A6-7F73-4454-9A78-DCA9D34F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FEB9-D665-4F0A-9A68-1C4CAF88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CB384F-08CC-4289-815A-D30DA601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829360-237A-433B-AD83-CA97E764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77C13C-FF10-45F1-80B4-60565667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71826A-B096-45A6-9502-D989E914B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DCFFA1-B773-4F5C-8F8F-7801DC51B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000CF5-B772-406B-B0CE-FC1D7F304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B83D18-F10D-482B-8975-10F9C726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DC6A0A-7ADB-4E23-9913-1A0AA8D2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D5B69A-BB1A-4A66-B0B7-959BF365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9FB1C9-8112-4615-9FBC-D7497283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B64C-CA90-4709-8359-997B9577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F91074-BE2E-439B-AA7B-AD0488C2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3A0F34-80F6-4294-8D52-D60351BD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9D34F0-C88C-4D66-B0B5-297C53C4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CA059D-8AAE-4009-A5A3-02481442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645405-0DFA-44EF-BD37-F49FDE81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592DAB-288B-4453-B002-A9F34BA0F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5DC5B8-D0B2-4D5C-A15D-E6750ACBA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EC1400-7A61-467D-8152-EA4C78D37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C86169-93E5-4D34-A95D-EC72BA9D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FC5B8F-3D04-4B00-8BB9-4CB278ED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064F-C2EE-48CC-B56C-4E3F35AA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3ECBF7-868C-4232-8CEE-2C8F418F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9758C2-7292-4A80-A69F-A050F30B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10B038-CD46-4C86-A5C3-AA4F95B2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6A7AA6-A5BD-40FE-9C81-4D0B5460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49D4E4-18D8-49D4-BF9D-BE2CF8CE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EE9CE0-8B59-4400-B862-229D15FD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7075BC-A0CE-4B3C-AC6F-370156AD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E2B41B-D075-4B91-B652-60C307297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75E4FF-4661-40CB-9EA7-C5B915FE9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ABE694-51EE-49F2-A120-117EA98E5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ED81-9F67-475C-B51F-8B0CE14AC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EF59F2-6B3F-4731-84AC-B9F7CF8F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ED7323-CDA6-4237-9C2B-4291DEE6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CC87A3-6E92-41D7-8107-00B040CA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B3DD82-92EB-4F8D-878A-DF562079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F0E63A-8E22-4829-BA1D-9FFBA651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3AFF7A-166C-4672-831A-54A76F8D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A66867-C640-4C09-B872-F5BB521A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75A6DC-690F-4562-A449-724F84A6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A837EB-7149-40D5-8E5E-5AF805BC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F35005-F0BC-426B-A147-0E23CB1E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964C-224C-471B-B233-1A61FE3CD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FE75FB-E35E-46D5-A726-91DDCF056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FE45F2-E518-46F9-8996-FA427785D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4BBD15-63E0-42F2-A31B-539E5728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F6D2C0-7483-49DE-8641-9D194854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180C9D-CA5B-423C-A663-E23840CF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32D9D1-8796-4AC0-A780-42660D78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89F4C0-22AF-44BB-B52E-B68E9516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744DEE-5706-46D5-9F72-2E7B2892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13FD13-214E-4984-A840-B7E439E6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305536-3AEF-46D6-BA0A-D51D2B19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DBD6F-6905-4229-9D05-417044D7C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9A5F57-F3B6-4207-A74D-E153CE1D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7AC10C-46E9-421B-AFB1-A1C5B743D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7338D2-527D-47FC-AE41-E2ED2EB5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67DF1-ED9E-417E-8ADD-B996231A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F2737-0164-4899-8080-656FECC8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63DCD-0282-44D8-AFA5-11B953B2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FE224-BFE6-4757-A972-54D405B6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1EA5-8160-470E-B23B-A8534B17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1A2B4-9E2F-4D98-B045-0480DA4A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C1EB2-674F-4EA7-9498-841F06D8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74A98-9199-4DDF-98E2-6C3026E0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6AA2E-1E93-4E77-ABE1-7ECE594D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CAEB1-F092-4BBA-BAD6-49AEF848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89DD5-2E0D-46B1-92D3-2E4738663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AE505-2AF8-4E40-9CFD-3BEE900E8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0E561-88C0-4450-A6D2-F6720B487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2EFEF-D9D5-427C-8710-323B79FE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1967D-0A19-4C53-A0B1-A227AACF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7D7F-D656-4F6C-8ECD-0EF80402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2A331-5268-4C29-A430-094FA4E3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270C6-6064-4DAB-8091-4964A43F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23E47-C33D-4503-843A-909939D6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18066-9CC0-42D6-B7A5-64E78DBE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9D004-7378-46CB-8E17-8DD595D9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293F0-C646-442B-8C9A-D98A9CD9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CD621-B876-49C7-8713-B1BBFEE9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7C77D-1755-429A-B0D5-1A7FCFAB5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6C6ED-14C2-43AD-B705-2A737C402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FA00D-C2F4-405E-B3DD-1854BF922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3E27-5375-4E78-85DD-AAE39CDD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AB67E-0CA2-46C0-841D-DB76341A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74B08-FF5A-4D5A-A167-7C54E459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E7A7E-829F-4DF1-B726-66E2E6ED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3516A-3DAF-4367-922A-FA869F2F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DD752-50D8-43C4-8E09-33D19162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F3E5C-1B19-4763-B3E5-3F6B89B5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F8D04-D692-4978-BAC0-AA4D3199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3AC25-DF01-4236-8333-D82860DF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4D429-7011-4638-98C5-782F8C51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DAADC-33AB-4C95-A6F9-04515FB0A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EC75-75BE-4945-AB71-65FAA30E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2D89B-A7AF-4675-A81E-9703B02D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571B8-667D-462C-864F-4AA9A0A1E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F1C77-BD7B-4091-AC76-E19195F8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5EEE5-05D3-449B-9602-9597F2F1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CC832-A0E1-4D7E-9B91-CFF954D2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E16B3-71D4-4207-A84C-857CFA55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BDA70-E424-4814-9120-6AEF904D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78ACE-6F64-4806-9C5F-EFC05953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AE11E-11E8-415E-AEAA-E6ECCD3A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CE44C-28D3-4A1E-8A5F-55A75481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04C2-88F3-4736-80A2-00DC231C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BA32B-AB01-4523-A275-6C6F32BF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2B2F2-B3BC-4BCE-BDA6-445C7B530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D92F3-5084-47E4-868C-A588B014D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58C4B-C40A-4A0E-AEBC-6F08A399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EDDC5-14A1-451B-9547-BCAA5849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A9877-F84F-4CC5-81A6-BD325507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77D11-DAC7-430A-9EA9-97349071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091C9-6A06-421D-8D50-5B432F03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4265D-9991-4E58-9074-D8AF9603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8C1EA-E133-413E-AFD3-D44EEBED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A790-9797-45FB-98F4-0FE89F6E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66CC4-026D-4163-A887-07AAD35D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3E2F9-9340-4AB3-BA90-5984B6E3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BB341-581A-47AB-94F3-B0C38EE1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A2F8D-31B5-4B3B-A588-9E4CCE74F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12622-81D5-4907-8781-D2979A55D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9F1F8-9CA2-430E-AD7F-33738695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D5F06-EADC-4B16-B9FB-B197B3B1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F1004-5070-49B4-8CB2-2A70FD44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A6AB1-AEBB-4551-A948-9EE1CB3F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6B692-DF2B-4472-AD85-EC9B62E5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B5FB-D95E-494C-AF58-EBF8181C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E7180-9F3A-4617-887A-69413850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CB95D-3D7C-41C1-8A7E-A4C35599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C17CE-5689-4D11-BEBB-D47ECCF3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EAE75-281C-4AC0-80EC-8AFD005A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D392B-C460-4AA1-B6B6-BAD5EC0D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566EB-877A-4B4D-94B5-9CCC93790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2F8F5-9878-4056-AA67-6D39E60E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46F79C-9096-4311-8CCD-707133D51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F5C9E-B5A2-4103-976C-37130A74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BE905-41BF-44C6-AB11-374422C2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802B-D454-4BBA-806E-DC9F082EF4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2BB0-53CE-4594-9B68-B869F58F7C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F724-7906-481F-BDF5-0361497B17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FFF6-DC49-4F53-A205-94EE0E98C0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30E2-02A8-4998-A7B2-93E8FA1B14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C705-27C2-4335-982A-EC2D8910C3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863F-EDED-40D9-B813-507BC3B70E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C5C4-9A01-4D63-A16A-6199EA63B7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047B-FC6A-44B7-88F2-9D5B8DD67C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DA58-BBF7-46A0-9573-EB48AF6357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21EB-FA3F-4335-B46C-DDFB7EC7ED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B356-9040-4304-9AFE-FE1EADEB7D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AB46-ACE1-4521-82F0-0FD07056A6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65C3-91D8-4A34-BFE7-4A31F699E8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A349-47A5-477B-A08B-EE9AEDA88F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37AE-F2E4-488F-9FDF-728ABCA09A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0BCA-76F8-4670-951C-B6D3484CB4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5FA9-4513-4A8B-8940-4E2CBE48D5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194A-0EB0-4A90-8E2C-336954D873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08A0-AD99-4C57-867D-D1C993252A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BDAC-290C-4287-A9F5-5B35E0BA1A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4E61-A0F4-4CB9-80B2-01E53434DB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A7A6-D2C9-4F3B-9651-80C60257CA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87DE-E082-4130-BAF2-3101C935AC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851B-CECA-493F-AAC9-93783062B2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6E99-2385-475D-BDA0-5BAF212060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E399-6C05-41DF-99E3-A36A5FEF47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3AC1-0B01-4CFD-8239-FDB7D929C9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3CA0-FDFC-4821-A5DB-BB34AFC176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5975-5E5C-4A06-9276-0DF5676594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4510-4E77-418F-A568-2D8604F80C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B5E0-B817-4773-944D-2105140AD8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C4CC-1F85-4BFD-B4D2-15351C1E59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66AE-4487-45AF-9149-2B7BCA07AD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FD82-2B34-42A3-8532-71CF3799EF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3ED2-0FAB-4556-B151-C191BDD16C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5C06-A9C6-490E-BAF1-B61540339D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8E93-7946-46F8-A840-3ADACF62A5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D2A2-2D78-40B7-B2BD-2611597782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E447-A0F2-4172-B4F4-2A90D99486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785880" y="2900520"/>
            <a:ext cx="7572240" cy="10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28600" y="861840"/>
            <a:ext cx="8686800" cy="55915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979640" y="5877000"/>
            <a:ext cx="1728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图片 59410" descr=""/>
          <p:cNvPicPr/>
          <p:nvPr/>
        </p:nvPicPr>
        <p:blipFill>
          <a:blip r:embed="rId1"/>
          <a:stretch/>
        </p:blipFill>
        <p:spPr>
          <a:xfrm>
            <a:off x="561960" y="1019160"/>
            <a:ext cx="8020080" cy="48196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2"/>
          <a:stretch/>
        </p:blipFill>
        <p:spPr>
          <a:xfrm>
            <a:off x="2556000" y="1066680"/>
            <a:ext cx="1584360" cy="4939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3"/>
          <a:stretch/>
        </p:blipFill>
        <p:spPr>
          <a:xfrm>
            <a:off x="5292720" y="177336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4"/>
          <a:stretch/>
        </p:blipFill>
        <p:spPr>
          <a:xfrm>
            <a:off x="7236000" y="242100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5"/>
          <a:stretch/>
        </p:blipFill>
        <p:spPr>
          <a:xfrm>
            <a:off x="3924360" y="4508640"/>
            <a:ext cx="2808360" cy="4935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6"/>
          <a:stretch/>
        </p:blipFill>
        <p:spPr>
          <a:xfrm>
            <a:off x="2484360" y="5157720"/>
            <a:ext cx="57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8373" descr=""/>
          <p:cNvPicPr/>
          <p:nvPr/>
        </p:nvPicPr>
        <p:blipFill>
          <a:blip r:embed="rId1"/>
          <a:stretch/>
        </p:blipFill>
        <p:spPr>
          <a:xfrm>
            <a:off x="285840" y="1009800"/>
            <a:ext cx="8572320" cy="48384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755640" y="3241800"/>
            <a:ext cx="5184720" cy="4935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684360" y="3933720"/>
            <a:ext cx="5184720" cy="4939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4"/>
          <a:stretch/>
        </p:blipFill>
        <p:spPr>
          <a:xfrm>
            <a:off x="826920" y="4581360"/>
            <a:ext cx="5185080" cy="4939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5"/>
          <a:stretch/>
        </p:blipFill>
        <p:spPr>
          <a:xfrm>
            <a:off x="971640" y="5257800"/>
            <a:ext cx="5184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7352" descr=""/>
          <p:cNvPicPr/>
          <p:nvPr/>
        </p:nvPicPr>
        <p:blipFill>
          <a:blip r:embed="rId1"/>
          <a:stretch/>
        </p:blipFill>
        <p:spPr>
          <a:xfrm>
            <a:off x="295200" y="995400"/>
            <a:ext cx="8553600" cy="48672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755640" y="3213000"/>
            <a:ext cx="5040360" cy="4939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971640" y="3860640"/>
            <a:ext cx="5040360" cy="493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1042920" y="4508640"/>
            <a:ext cx="5040360" cy="4935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900000" y="5229360"/>
            <a:ext cx="5040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6324" descr=""/>
          <p:cNvPicPr/>
          <p:nvPr/>
        </p:nvPicPr>
        <p:blipFill>
          <a:blip r:embed="rId1"/>
          <a:stretch/>
        </p:blipFill>
        <p:spPr>
          <a:xfrm>
            <a:off x="276120" y="833400"/>
            <a:ext cx="8591760" cy="56199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1332000" y="3773520"/>
            <a:ext cx="6696000" cy="4935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1332000" y="4451400"/>
            <a:ext cx="6696000" cy="4935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4"/>
          <a:stretch/>
        </p:blipFill>
        <p:spPr>
          <a:xfrm>
            <a:off x="1116000" y="5199120"/>
            <a:ext cx="6696000" cy="4935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5"/>
          <a:stretch/>
        </p:blipFill>
        <p:spPr>
          <a:xfrm>
            <a:off x="1116000" y="5877000"/>
            <a:ext cx="6696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5300" descr=""/>
          <p:cNvPicPr/>
          <p:nvPr/>
        </p:nvPicPr>
        <p:blipFill>
          <a:blip r:embed="rId1"/>
          <a:stretch/>
        </p:blipFill>
        <p:spPr>
          <a:xfrm>
            <a:off x="619200" y="1033560"/>
            <a:ext cx="7905600" cy="47908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900000" y="2449440"/>
            <a:ext cx="6767640" cy="4939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971640" y="3141720"/>
            <a:ext cx="6767280" cy="4935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900000" y="3889440"/>
            <a:ext cx="6767640" cy="4935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971640" y="4581360"/>
            <a:ext cx="6767280" cy="4939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6"/>
          <a:stretch/>
        </p:blipFill>
        <p:spPr>
          <a:xfrm>
            <a:off x="900000" y="5243400"/>
            <a:ext cx="676764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4276" descr=""/>
          <p:cNvPicPr/>
          <p:nvPr/>
        </p:nvPicPr>
        <p:blipFill>
          <a:blip r:embed="rId1"/>
          <a:stretch/>
        </p:blipFill>
        <p:spPr>
          <a:xfrm>
            <a:off x="247680" y="588960"/>
            <a:ext cx="8648640" cy="61531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755640" y="4221000"/>
            <a:ext cx="4968720" cy="4939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900000" y="4869000"/>
            <a:ext cx="4969080" cy="4935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1042920" y="5673600"/>
            <a:ext cx="4969080" cy="4939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5"/>
          <a:stretch/>
        </p:blipFill>
        <p:spPr>
          <a:xfrm>
            <a:off x="1187280" y="6321600"/>
            <a:ext cx="4969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2231" descr=""/>
          <p:cNvPicPr/>
          <p:nvPr/>
        </p:nvPicPr>
        <p:blipFill>
          <a:blip r:embed="rId1"/>
          <a:stretch/>
        </p:blipFill>
        <p:spPr>
          <a:xfrm>
            <a:off x="828720" y="1268280"/>
            <a:ext cx="7486560" cy="2248200"/>
          </a:xfrm>
          <a:prstGeom prst="rect">
            <a:avLst/>
          </a:prstGeom>
          <a:ln w="0">
            <a:noFill/>
          </a:ln>
        </p:spPr>
      </p:pic>
      <p:pic>
        <p:nvPicPr>
          <p:cNvPr id="957" name="图片 52232" descr=""/>
          <p:cNvPicPr/>
          <p:nvPr/>
        </p:nvPicPr>
        <p:blipFill>
          <a:blip r:embed="rId2"/>
          <a:stretch/>
        </p:blipFill>
        <p:spPr>
          <a:xfrm>
            <a:off x="181080" y="3297240"/>
            <a:ext cx="8781840" cy="221940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4097160" y="1643040"/>
            <a:ext cx="979560" cy="4935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7451640" y="1671480"/>
            <a:ext cx="979560" cy="4939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4140360" y="2392200"/>
            <a:ext cx="979200" cy="7495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6"/>
          <a:stretch/>
        </p:blipFill>
        <p:spPr>
          <a:xfrm>
            <a:off x="7164360" y="2378160"/>
            <a:ext cx="979560" cy="7491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7"/>
          <a:stretch/>
        </p:blipFill>
        <p:spPr>
          <a:xfrm>
            <a:off x="2311560" y="3645000"/>
            <a:ext cx="979200" cy="7491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8"/>
          <a:stretch/>
        </p:blipFill>
        <p:spPr>
          <a:xfrm>
            <a:off x="5205240" y="3630600"/>
            <a:ext cx="979560" cy="7491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9"/>
          <a:stretch/>
        </p:blipFill>
        <p:spPr>
          <a:xfrm>
            <a:off x="8221680" y="3645000"/>
            <a:ext cx="799920" cy="7491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10"/>
          <a:stretch/>
        </p:blipFill>
        <p:spPr>
          <a:xfrm>
            <a:off x="1461960" y="4437000"/>
            <a:ext cx="800280" cy="7495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11"/>
          <a:stretch/>
        </p:blipFill>
        <p:spPr>
          <a:xfrm>
            <a:off x="5364000" y="4508640"/>
            <a:ext cx="800280" cy="7491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12"/>
          <a:stretch/>
        </p:blipFill>
        <p:spPr>
          <a:xfrm>
            <a:off x="8346960" y="4653000"/>
            <a:ext cx="6112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11:07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